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5227-915E-4846-9C3B-E8BECC9C9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52B7-E550-4381-A48B-9DE6B115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DB2F-E646-47D5-B5CC-725BF57F4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E311-BF19-4268-9B93-A9FD4868C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3602-0D8B-4B6F-82C1-5F93B272A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EB2B-A8DB-4354-9510-B10D86213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5BDF-5997-4653-8546-45212CE7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BE09-56DF-4737-BB5D-A46FEAD1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A219-1517-4C17-9562-7879B53E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0BE4-B5C2-465F-B0E8-4300274F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D42B-7656-43AE-8064-92A83D99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A28D-32A7-4EFA-9CBD-04F2975D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3022-58F2-458B-A71C-5346C240BF4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7E6B-7038-404F-8DE6-9DE865B2C7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0"/>
          <p:cNvSpPr/>
          <p:nvPr/>
        </p:nvSpPr>
        <p:spPr>
          <a:xfrm>
            <a:off x="5857920" y="3143160"/>
            <a:ext cx="9288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Рисунок 9" descr=""/>
          <p:cNvPicPr/>
          <p:nvPr/>
        </p:nvPicPr>
        <p:blipFill>
          <a:blip r:embed="rId1"/>
          <a:stretch/>
        </p:blipFill>
        <p:spPr>
          <a:xfrm>
            <a:off x="179280" y="4869000"/>
            <a:ext cx="781200" cy="79992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10" descr="http://im2-tub-ru.yandex.net/i?id=288906987-01-72"/>
          <p:cNvPicPr/>
          <p:nvPr/>
        </p:nvPicPr>
        <p:blipFill>
          <a:blip r:embed="rId2"/>
          <a:stretch/>
        </p:blipFill>
        <p:spPr>
          <a:xfrm>
            <a:off x="1835280" y="4941720"/>
            <a:ext cx="628560" cy="57168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12" descr="Z:\08.СлужбаДиректора\commet-2.gif"/>
          <p:cNvPicPr/>
          <p:nvPr/>
        </p:nvPicPr>
        <p:blipFill>
          <a:blip r:embed="rId3"/>
          <a:stretch/>
        </p:blipFill>
        <p:spPr>
          <a:xfrm>
            <a:off x="2484360" y="4724280"/>
            <a:ext cx="1057320" cy="8668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13" descr="Картинка 7 из 34285"/>
          <p:cNvPicPr/>
          <p:nvPr/>
        </p:nvPicPr>
        <p:blipFill>
          <a:blip r:embed="rId4"/>
          <a:stretch/>
        </p:blipFill>
        <p:spPr>
          <a:xfrm>
            <a:off x="1042920" y="4941720"/>
            <a:ext cx="733320" cy="65736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17"/>
          <p:cNvSpPr/>
          <p:nvPr/>
        </p:nvSpPr>
        <p:spPr>
          <a:xfrm>
            <a:off x="0" y="5786280"/>
            <a:ext cx="8215200" cy="142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8"/>
          <p:cNvSpPr/>
          <p:nvPr/>
        </p:nvSpPr>
        <p:spPr>
          <a:xfrm>
            <a:off x="8286840" y="5786280"/>
            <a:ext cx="857160" cy="1429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26"/>
          <p:cNvSpPr/>
          <p:nvPr/>
        </p:nvSpPr>
        <p:spPr>
          <a:xfrm flipH="1">
            <a:off x="5500800" y="0"/>
            <a:ext cx="1440" cy="5786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7"/>
          <p:cNvSpPr/>
          <p:nvPr/>
        </p:nvSpPr>
        <p:spPr>
          <a:xfrm>
            <a:off x="395280" y="189000"/>
            <a:ext cx="5500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3"/>
          <p:cNvSpPr/>
          <p:nvPr/>
        </p:nvSpPr>
        <p:spPr>
          <a:xfrm>
            <a:off x="0" y="6000840"/>
            <a:ext cx="9144000" cy="85716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  <a:ea typeface="Arial"/>
              </a:rPr>
              <a:t>ФГУП «ВНИИР» 20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9"/>
          <p:cNvSpPr/>
          <p:nvPr/>
        </p:nvSpPr>
        <p:spPr>
          <a:xfrm>
            <a:off x="6858000" y="4854600"/>
            <a:ext cx="857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29" descr="C:\Users\Маргарита\Pictures\IQNet cert mark_copy_1.bmp"/>
          <p:cNvPicPr/>
          <p:nvPr/>
        </p:nvPicPr>
        <p:blipFill>
          <a:blip r:embed="rId5"/>
          <a:stretch/>
        </p:blipFill>
        <p:spPr>
          <a:xfrm>
            <a:off x="3564000" y="4797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30" descr="C:\Users\Маргарита\Pictures\9001_copy_1.bmp"/>
          <p:cNvPicPr/>
          <p:nvPr/>
        </p:nvPicPr>
        <p:blipFill>
          <a:blip r:embed="rId6"/>
          <a:stretch/>
        </p:blipFill>
        <p:spPr>
          <a:xfrm>
            <a:off x="4572000" y="4869000"/>
            <a:ext cx="720720" cy="715680"/>
          </a:xfrm>
          <a:prstGeom prst="rect">
            <a:avLst/>
          </a:prstGeom>
          <a:ln w="0">
            <a:noFill/>
          </a:ln>
        </p:spPr>
      </p:pic>
      <p:sp>
        <p:nvSpPr>
          <p:cNvPr id="54" name="TextBox 27"/>
          <p:cNvSpPr/>
          <p:nvPr/>
        </p:nvSpPr>
        <p:spPr>
          <a:xfrm>
            <a:off x="108000" y="4797360"/>
            <a:ext cx="55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9" descr=""/>
          <p:cNvPicPr/>
          <p:nvPr/>
        </p:nvPicPr>
        <p:blipFill>
          <a:blip r:embed="rId7"/>
          <a:stretch/>
        </p:blipFill>
        <p:spPr>
          <a:xfrm>
            <a:off x="5796000" y="115920"/>
            <a:ext cx="3071880" cy="543888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19"/>
          <p:cNvSpPr/>
          <p:nvPr/>
        </p:nvSpPr>
        <p:spPr>
          <a:xfrm>
            <a:off x="-11160" y="-27000"/>
            <a:ext cx="5511960" cy="1125720"/>
          </a:xfrm>
          <a:prstGeom prst="rect">
            <a:avLst/>
          </a:prstGeom>
          <a:solidFill>
            <a:srgbClr val="8eb4e3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ГУП  «ВНИИР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Группа 8"/>
          <p:cNvGrpSpPr/>
          <p:nvPr/>
        </p:nvGrpSpPr>
        <p:grpSpPr>
          <a:xfrm>
            <a:off x="108000" y="115920"/>
            <a:ext cx="1096920" cy="982440"/>
            <a:chOff x="108000" y="115920"/>
            <a:chExt cx="1096920" cy="982440"/>
          </a:xfrm>
        </p:grpSpPr>
        <p:pic>
          <p:nvPicPr>
            <p:cNvPr id="58" name="Picture 3" descr=""/>
            <p:cNvPicPr/>
            <p:nvPr/>
          </p:nvPicPr>
          <p:blipFill>
            <a:blip r:embed="rId8"/>
            <a:stretch/>
          </p:blipFill>
          <p:spPr>
            <a:xfrm>
              <a:off x="352080" y="115920"/>
              <a:ext cx="59544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TextBox 10"/>
            <p:cNvSpPr/>
            <p:nvPr/>
          </p:nvSpPr>
          <p:spPr>
            <a:xfrm>
              <a:off x="108000" y="837000"/>
              <a:ext cx="10969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РОССТАНДАРТ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Прямоугольник 23"/>
          <p:cNvSpPr/>
          <p:nvPr/>
        </p:nvSpPr>
        <p:spPr>
          <a:xfrm>
            <a:off x="4432320" y="38160"/>
            <a:ext cx="733320" cy="95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Z:\09.СлужбаЗампоЭкониФин\03.ОСБ.ОтдСбыта\04.Менеджер\картинки\LOGO\1.jpg"/>
          <p:cNvPicPr/>
          <p:nvPr/>
        </p:nvPicPr>
        <p:blipFill>
          <a:blip r:embed="rId9"/>
          <a:stretch/>
        </p:blipFill>
        <p:spPr>
          <a:xfrm>
            <a:off x="4600440" y="150840"/>
            <a:ext cx="397080" cy="65556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2"/>
          <p:cNvSpPr/>
          <p:nvPr/>
        </p:nvSpPr>
        <p:spPr>
          <a:xfrm>
            <a:off x="501480" y="174960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я по п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6 Повестки 46-го заседания НТКМет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«О ходе работ по пересмотру ГОСТ 8.587-2006 и РМГ 81-2006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 по п.17 Повест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6-го заседания НТКМет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«О предложениях по разработке РМГ «Расчет межповерочного интервала для счетчиков холодной и горячей вод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7"/>
          <p:cNvSpPr/>
          <p:nvPr/>
        </p:nvSpPr>
        <p:spPr>
          <a:xfrm>
            <a:off x="0" y="1143000"/>
            <a:ext cx="8215200" cy="142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8"/>
          <p:cNvSpPr/>
          <p:nvPr/>
        </p:nvSpPr>
        <p:spPr>
          <a:xfrm>
            <a:off x="8286840" y="1143000"/>
            <a:ext cx="857160" cy="1429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9"/>
          <p:cNvSpPr/>
          <p:nvPr/>
        </p:nvSpPr>
        <p:spPr>
          <a:xfrm>
            <a:off x="0" y="142920"/>
            <a:ext cx="9144000" cy="85716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я по п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6 Повестки 46-го заседания НТКМет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«О ходе работ по пересмотру ГОСТ 8.587-2006 и РМГ 81-2006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Номер слайда 6"/>
          <p:cNvSpPr/>
          <p:nvPr/>
        </p:nvSpPr>
        <p:spPr>
          <a:xfrm>
            <a:off x="8532720" y="6356520"/>
            <a:ext cx="36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"/>
          <p:cNvSpPr/>
          <p:nvPr/>
        </p:nvSpPr>
        <p:spPr>
          <a:xfrm>
            <a:off x="176040" y="1306440"/>
            <a:ext cx="871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целях выполнения данного пункта  ФГУП «ВНИИР» совместно с ООО «НИИ Транснефть» осуществляют разработку комплекса стандартов в области измерений количества и показателей качества нефти при ее транспортировке по системе магистральных нефтепровод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"/>
          <p:cNvSpPr/>
          <p:nvPr/>
        </p:nvSpPr>
        <p:spPr>
          <a:xfrm>
            <a:off x="176040" y="2529000"/>
            <a:ext cx="8755200" cy="42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ГОСТ «ГСИ. Масса нефти и нефтепродуктов. Методики (методы) измерений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Стандарт прошел голосование в ТК 024 и ТК 23. При голосовании в техническом комитете по стандартизации ТК 23 «Нефтяная и газовая промышленность» были получены замечания. На данном этапе ООО «НИИ Транснефть» рассматривает замечания, готовит сводку отзывов и направляет в адрес ТК 23 доработанный проект стандарт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- ГОСТ «Системы измерений количества и показателей качества нефти и нефтепродуктов. Общие технические условия»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(Стандарт прошел обсуждение в МГС. При обсуждении в межгосударственном техническом комитете по стандартизации МТК 523 «Техника и технологии добычи и переработки нефти и газа» были получены замечания. На данном этапе ООО «НИИ Транснефть» рассматривает замечания, готовит сводку отзывов и направляет доработанный проект стандарта в адрес МТК 523. Планируемая дата принятия – 2017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D07E-3E40-4E5A-A0D1-7B63BC1514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"/>
          <p:cNvSpPr/>
          <p:nvPr/>
        </p:nvSpPr>
        <p:spPr>
          <a:xfrm>
            <a:off x="0" y="142920"/>
            <a:ext cx="9144000" cy="85716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я по п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6 Повестки 46-го заседания НТКМет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«О ходе работ по пересмотру ГОСТ 8.587-2006 и РМГ 81-2006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0" y="1143000"/>
            <a:ext cx="8215200" cy="142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4"/>
          <p:cNvSpPr/>
          <p:nvPr/>
        </p:nvSpPr>
        <p:spPr>
          <a:xfrm>
            <a:off x="8286840" y="1143000"/>
            <a:ext cx="857160" cy="1429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228600" y="2016000"/>
            <a:ext cx="8686800" cy="33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ГОСТ «Государственная система обеспечения единства измерений. Средства измерений объемного расхода нефти и нефтепродуктов. Испытания. Поверка и калибровка с применением трубопоршневых поверочных установок»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Разработка первой редакции проекта ГОСТ на базе ГОСТ Р 8.908-2015 «ГСИ. Средства измерений объемного расхода нефти и нефтепродуктов. Испытания, поверка и калибровка с применением трубопоршневых установок», данный стандарт утвержден и введен в действие Приказом Федерального агентства по техническому регулированию и метрологии от 10 декабря 2015 г. № 2144-ст, дата введения в действие 1 мая 20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г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7"/>
          <p:cNvSpPr/>
          <p:nvPr/>
        </p:nvSpPr>
        <p:spPr>
          <a:xfrm>
            <a:off x="0" y="1143000"/>
            <a:ext cx="8215200" cy="142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8"/>
          <p:cNvSpPr/>
          <p:nvPr/>
        </p:nvSpPr>
        <p:spPr>
          <a:xfrm>
            <a:off x="8286840" y="1143000"/>
            <a:ext cx="857160" cy="1429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9"/>
          <p:cNvSpPr/>
          <p:nvPr/>
        </p:nvSpPr>
        <p:spPr>
          <a:xfrm>
            <a:off x="0" y="142920"/>
            <a:ext cx="9144000" cy="85716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нформация по п.17 Повестк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6-го заседания НТКМет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«О предложениях по разработке РМГ «Расчет межповерочного интервала для счетчиков холодной и горячей вод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9A91-356F-46EA-A3A1-7D7C9DE0A1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1"/>
          <p:cNvSpPr/>
          <p:nvPr/>
        </p:nvSpPr>
        <p:spPr>
          <a:xfrm>
            <a:off x="233280" y="2136600"/>
            <a:ext cx="8677440" cy="33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7 декабря 2016 года национальный стандарт ГОСТ Р 8.931-2016 «Государственная система обеспечения единства измерений. Счетчики холодной и горячей воды. Определение интервала между поверками» утвержден приказом Министерства промышленности и торговли Российской Федераци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Федерального агентства по техническому регулированию и метрологии от 7 декабря 2016 года N 1981-ст «Об утверждении национального стандарта Российской Федерации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циональный стандарт Российской Федерации ГОСТ Р 8.931-2016 «Государственная система обеспечения единства измерений. Счетчики холодной и горячей воды. Определение интервала между поверками» вводится в действие с 1 июля 2018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7"/>
          <p:cNvSpPr/>
          <p:nvPr/>
        </p:nvSpPr>
        <p:spPr>
          <a:xfrm>
            <a:off x="0" y="1143000"/>
            <a:ext cx="8215200" cy="14292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оугольник 8"/>
          <p:cNvSpPr/>
          <p:nvPr/>
        </p:nvSpPr>
        <p:spPr>
          <a:xfrm>
            <a:off x="8286840" y="1143000"/>
            <a:ext cx="857160" cy="1429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9"/>
          <p:cNvSpPr/>
          <p:nvPr/>
        </p:nvSpPr>
        <p:spPr>
          <a:xfrm>
            <a:off x="0" y="142920"/>
            <a:ext cx="9144000" cy="85716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6"/>
          <p:cNvSpPr/>
          <p:nvPr/>
        </p:nvSpPr>
        <p:spPr>
          <a:xfrm>
            <a:off x="8532720" y="6356520"/>
            <a:ext cx="36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1" descr=""/>
          <p:cNvPicPr/>
          <p:nvPr/>
        </p:nvPicPr>
        <p:blipFill>
          <a:blip r:embed="rId1"/>
          <a:stretch/>
        </p:blipFill>
        <p:spPr>
          <a:xfrm>
            <a:off x="306360" y="142920"/>
            <a:ext cx="890640" cy="146376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1"/>
          <p:cNvSpPr/>
          <p:nvPr/>
        </p:nvSpPr>
        <p:spPr>
          <a:xfrm>
            <a:off x="750960" y="487836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20088,  Российская Федерац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спублика Татарстан, г. Казан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л. 2-я Азинская, д. 7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.: 8 (843) 272-70-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йт: www.vniir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2" descr=""/>
          <p:cNvPicPr/>
          <p:nvPr/>
        </p:nvPicPr>
        <p:blipFill>
          <a:blip r:embed="rId2"/>
          <a:stretch/>
        </p:blipFill>
        <p:spPr>
          <a:xfrm>
            <a:off x="1795320" y="2637000"/>
            <a:ext cx="641988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1T11:31:05Z</dcterms:created>
  <dc:creator>bibliotekar</dc:creator>
  <dc:description/>
  <dc:language>en-US</dc:language>
  <cp:lastModifiedBy>MASHEENA</cp:lastModifiedBy>
  <dcterms:modified xsi:type="dcterms:W3CDTF">2017-10-25T05:27:54Z</dcterms:modified>
  <cp:revision>589</cp:revision>
  <dc:subject/>
  <dc:title>Слайд 1</dc:title>
</cp:coreProperties>
</file>